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2A4A-A6BF-4171-A385-D699B4B33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9F7A-B216-496A-A62E-705933B57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9515-BB65-45F1-BE18-5C3DF4B46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CB5-5FF8-4469-84D0-7202D9BB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93800" y="396432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A410-7763-4274-A1EC-385189DB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5364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541-7F37-4667-B89F-CA4590C0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456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5532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9380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456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5532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D25A-D373-4B2D-9DA4-6A7A60E7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2CA6-46E9-4BCB-A676-AFE0B8430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74F7-BC65-4F91-ABE1-919DB1A1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341C-81E4-4363-B3AE-52DCA103B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B517-37C6-4ACF-B7C0-93DA79A1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F203-1911-40A1-A70F-F1F1574D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93800" y="274320"/>
            <a:ext cx="733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471E-DFDC-465D-A3C6-D74796DB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F865-7A55-4362-AD6B-2116677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AFB-6FC9-4E9C-91F1-836EF951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5364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88D9-1410-42BC-82E4-6808F245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8035-CBE2-47AD-AA4E-3CF5D0FE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93800" y="396432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FE56-9CA5-4502-A083-A7C6724E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5364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86B8-1CC9-46D9-89E3-6C8725ED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456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55320" y="160020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9380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456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55320" y="3964320"/>
            <a:ext cx="236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B2AF-9045-4C76-A946-12B92ECE0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CD7-39C5-4C32-98AE-4374C55A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8B3-4AD1-425B-8465-F7EBE766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B164-0B38-4B46-99EE-22204576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3800" y="274320"/>
            <a:ext cx="7337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95A-7C37-48F2-B133-B8891765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5F3-A618-4553-A139-D666FBCA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53640" y="396432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761-3C70-45C6-AD9B-46A0D3D2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380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3640" y="1600200"/>
            <a:ext cx="3580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93800" y="3964320"/>
            <a:ext cx="7337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647-E30D-40D9-B283-6D56CD04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F825-B39C-4ECE-99DC-E86B4915B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7DBE-E87F-42D8-9C03-B4674E652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3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Excellence"/>
              </a:rPr>
              <a:t>rd</a:t>
            </a: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 Annual </a:t>
            </a:r>
            <a:br>
              <a:rPr sz="6000"/>
            </a:b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“Footprints in Laconia”</a:t>
            </a:r>
            <a:br>
              <a:rPr sz="6000"/>
            </a:br>
            <a:r>
              <a:rPr b="0" lang="en-US" sz="4000" spc="-1" strike="noStrike">
                <a:solidFill>
                  <a:srgbClr val="716f3b"/>
                </a:solidFill>
                <a:latin typeface="Excellence"/>
              </a:rPr>
              <a:t>April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2280" y="2582640"/>
            <a:ext cx="439092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Excellence"/>
              </a:rPr>
              <a:t>Celebr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Excellence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Excellence"/>
              </a:rPr>
              <a:t>of Earth Wee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Monday, April 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608120" y="1380600"/>
            <a:ext cx="7337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xcellence"/>
              </a:rPr>
              <a:t>Save Ener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Turn off the lights for a 2 hour period (more if it is a sunny d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Turn down the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Turn off the compu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Cook on the gr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Read a book instead of watching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Excellence"/>
              </a:rPr>
              <a:t>Hang laundry outside to d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Documents and Settings\jbrough\Local Settings\Temporary Internet Files\Content.IE5\5QN3DF1B\MCj04404050000[1].png"/>
          <p:cNvPicPr/>
          <p:nvPr/>
        </p:nvPicPr>
        <p:blipFill>
          <a:blip r:embed="rId9"/>
          <a:stretch/>
        </p:blipFill>
        <p:spPr>
          <a:xfrm>
            <a:off x="7378560" y="198360"/>
            <a:ext cx="153684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076480" y="1275840"/>
            <a:ext cx="6859440" cy="26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xcellence"/>
              </a:rPr>
              <a:t>GET THERE GR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Walk or Ride your bike to school/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Carpool with frie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Take a walk at lun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Use the st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Take your dog for a wa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le 1"/>
          <p:cNvSpPr/>
          <p:nvPr/>
        </p:nvSpPr>
        <p:spPr>
          <a:xfrm>
            <a:off x="1341360" y="169920"/>
            <a:ext cx="733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Tuesday, April 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Wednesday, April 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9556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xcellence"/>
              </a:rPr>
              <a:t>Paper f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Use alternatives to paper – slate/smartboard/note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Think before you pri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Print/copy double si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Google ap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Thursday, April 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xcellence"/>
              </a:rPr>
              <a:t>REDUCE AND RE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Book sw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Trash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Recycle music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Reusable containers for l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Reusable water bot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Excellence"/>
              </a:rPr>
              <a:t>Clothing sw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3800" y="274320"/>
            <a:ext cx="733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16f3b"/>
                </a:solidFill>
                <a:latin typeface="Excellence"/>
              </a:rPr>
              <a:t>Friday, April 2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93800" y="1600200"/>
            <a:ext cx="733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Excellence"/>
              </a:rPr>
              <a:t>POWER DOWN AND GET 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12 – 2 turn off pc’s/cell phones/print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Excellence"/>
              </a:rPr>
              <a:t>Get outside to clean camp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9160" y="274320"/>
            <a:ext cx="8551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16f3b"/>
                </a:solidFill>
                <a:latin typeface="Excellence"/>
              </a:rPr>
              <a:t>Special Thanks to the Laconia School District Green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Content Placeholder 2" descr=""/>
          <p:cNvPicPr/>
          <p:nvPr/>
        </p:nvPicPr>
        <p:blipFill>
          <a:blip r:embed="rId1"/>
          <a:stretch/>
        </p:blipFill>
        <p:spPr>
          <a:xfrm>
            <a:off x="2981160" y="1427040"/>
            <a:ext cx="5784840" cy="4089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3070080" y="5433840"/>
            <a:ext cx="509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16f3b"/>
                </a:solidFill>
                <a:latin typeface="Excellence"/>
              </a:rPr>
              <a:t>And to all of </a:t>
            </a:r>
            <a:r>
              <a:rPr b="0" i="1" lang="en-US" sz="2400" spc="-1" strike="noStrike">
                <a:solidFill>
                  <a:srgbClr val="716f3b"/>
                </a:solidFill>
                <a:latin typeface="Excellence"/>
              </a:rPr>
              <a:t>YOU</a:t>
            </a:r>
            <a:r>
              <a:rPr b="0" lang="en-US" sz="2400" spc="-1" strike="noStrike">
                <a:solidFill>
                  <a:srgbClr val="716f3b"/>
                </a:solidFill>
                <a:latin typeface="Excellence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16f3b"/>
                </a:solidFill>
                <a:latin typeface="Excellence"/>
              </a:rPr>
              <a:t>Laconia School District students and staf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4:49:22Z</dcterms:created>
  <dc:creator>Janet Brough</dc:creator>
  <dc:description/>
  <dc:language>en-US</dc:language>
  <cp:lastModifiedBy>Janet Brough</cp:lastModifiedBy>
  <dcterms:modified xsi:type="dcterms:W3CDTF">2012-04-06T12:33:11Z</dcterms:modified>
  <cp:revision>27</cp:revision>
  <dc:subject/>
  <dc:title>Footprints in Laconia  April 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23091033</vt:lpwstr>
  </property>
</Properties>
</file>